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A65D-F46B-4B3A-9892-B738436DB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CB07-441B-478F-809A-6ACFE36FB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693-A38E-4A90-94E0-C30DD2244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2F45-36BF-40A8-B1D5-1FD240999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50F-7915-40AF-9529-A33861A4D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28E6-1059-4C2B-A576-A50D3FD44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B30D-ACCA-4528-9DAD-AAAAF6D71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431-79CE-4FF6-B8CD-EE6B54F90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2F69-DF45-4FD6-B81E-DDEDA3E90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23DB-F64B-4ECA-BA28-9BECF6337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1E8-6E4B-4FE1-9746-3F06F1C2A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210-EDCD-41BA-B6C7-49CD0B453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C8D-6171-425C-9332-F961D2A8F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491-F5F5-435A-B667-6D137581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7DB-FE7F-49F4-B162-2F28206D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386-F923-4C90-9C26-811E1B3E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AD0-27A6-43C7-A399-3B5A4AAF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D8E4-8870-4B39-BB0B-698F9703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A88F-EEBB-4BA9-8A0F-188C4BD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3398-FF89-4A06-A8C5-B128C824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CED0-0DC5-4901-AAA9-8E2F5049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DCA3-AF90-4BF7-9313-068F07E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7B4-A410-47FF-9DD2-AC5D6EA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38C9-603E-46AF-9710-5D246A0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68C-A88A-4080-BF9C-001C441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FFA-90F7-4EE3-82FA-72CAF26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BFDD-AB70-4D3C-A11D-CE70B10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8E78-2411-49E5-8999-1D954DD0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B35E-9495-4C1F-8C7D-65E8C4CF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BC5-6A98-4A52-B4C4-1F8EFB3F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3DE45-96F6-4968-A3FA-F8806CA4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FA91B-210E-4368-89A4-A696415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87FCE-D926-4B16-9650-F6F6E3E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D903B-F072-43A5-A527-393F5EC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20A3F-96DD-4D9A-91EC-84C82B1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85E-B85E-4C4B-86FA-D06BA500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AE801-B9C5-4C11-A16B-234C609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14E8E-7E8E-4104-885F-94D7DEA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674FC-6D91-4F42-8920-29F8AEB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6C690-A964-451C-B0B6-156FA5D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929B8-E875-4ACD-8D5C-162AD4C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7F49C-F788-4625-A560-A146818A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C4DA5-EEC2-4577-9CA9-8AA5FDFF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18BD7-3436-4A80-8188-011A4A8B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67C58-A7A0-4F1B-BCF5-18D0AB4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04BCC-6BEE-45EC-82D8-1367F956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326-FB02-43C7-AA87-F8097B30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19EE3-5833-4F7C-92EB-2C0599D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5D182-7E0B-42BC-9168-6D74CA4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1F0D1-30A7-43D7-A06D-9759841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C2E45-4AF6-47BF-8A8A-597E872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72E1B-8828-448A-A9B9-BEAD310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932CA-7762-4AA5-B568-7C08564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0CEC2-1A46-4719-BA6C-288F7CD3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E2180-7E9B-48D1-8B6F-DB42227A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0CEA9-4180-40F0-B44E-AC8EC9BC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E16CC-5E62-45AE-A3EE-3E69E74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118-133B-4CC6-9FAA-8735FB65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C8DDD-1DE5-4CA8-B8C3-029D5698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38978-238C-42C6-9510-62099F5C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304BC-1E0C-4ABB-8C03-2618C77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B78C-F54C-41B8-887C-B40CE9A9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CCAFD-F597-4558-9192-D3D1D8DD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5568B-C11B-4F74-ACB0-4382892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EDF57-60CE-46AA-937A-C2B00DB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F73B2-640A-4A38-AD2C-A8A8C5F4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5708D-CE82-45F0-8973-1E9C0AF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B96D3-D14C-4C19-88F2-A85179CF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EFD-6418-4C17-87BC-9EDA0ED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27E3C-3C81-4EF1-98C0-65E1484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A9057-16E5-48BC-B284-07F756D8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F10D-742D-455B-B934-B7E5948D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5293-0E58-4D48-8067-9BFD3D5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54BC8-5951-4C12-BCBC-15885BA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3341-66D2-4AC6-8BD2-FE6FF6A1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84B3-F27C-4596-825A-8FE8B7A1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D342-DE52-40E2-B252-99FA740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6B3E-7C94-44AF-8E78-0C076DD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4047-A9C2-4354-A578-7820AF1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071-299C-4802-A49D-06FDF1A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E93A-1B7E-4CC2-916B-25AE1310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2690-29D6-4632-8346-48D2527D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5AEA-47A3-4D9B-9FAF-E52D6B92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51C0B-36F9-445F-BA4B-9BDA731D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04E31-405F-4CFE-9EDF-485CEC6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88387-E75B-4E06-B74E-A0A2195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D8861-1550-4E9A-8F6D-2E781E3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12710-644F-414B-9BF3-7257CA7C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82C8F-000C-4D16-B956-2EB2955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B721B-F8C2-4E80-ADC1-38A59D0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2C1-941A-4810-9247-AAA9C7F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0F48F-E863-414F-BFDA-1A7BC2A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8161F-0AEF-45E0-9F7E-2B85F64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86AA1-B777-4273-B445-A46C6DD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D895D-5C22-4CA0-B062-0EB3C115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8EFDE-C8F8-48DA-BDA2-2894F594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0DD1-EF9D-4F5A-83D2-FC6D86B2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7724-57AB-43B8-B8A3-57C3EE5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0608-75CF-4623-A7AB-B597FC8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CB09-76C1-4586-A19B-D0B5E7C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DFED-31A4-4B2D-B7BD-B33C6B71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484-5A51-48E9-8429-F8ED2E0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DA3EB-1CC8-4837-A8E1-74A3428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575F8-18C7-4451-9428-D43A7F0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3BAAB-C9FC-4603-9C13-63ACD05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832CD-1D0C-45C2-AD1D-BFA0BDD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44631-270F-4B35-9694-F34B55F5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B82D-A960-4B7B-8B75-F403F8EE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AA53-39AC-4B08-A297-45BAC6BF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5DD-974E-4E81-9BAB-8C39928B4BD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930-0E7B-406C-95C9-975651A13EB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070-40D8-4F8D-95F4-E6AE1B40D37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A86-EDDA-4227-BF55-25EBECE6BA3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E587-CF84-40B8-A652-AC74C944583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559-D0A7-49E8-A73C-359E61775F3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363-3960-4015-A436-7BA31A68032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65F-D474-494F-A52D-5971CAAF50C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bram, S. (2009, February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Measuring libraries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Stephen's Lighthouse [Blog]. Retrieved July 2, 2009 from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stephenslighthouse.sirsidynix.com/archives/2009/02/measuring_libra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9, January). SirsiDynix Adds Chilifresh Engine. Library Journal, 2009 (issue 1). Retrieved June 30, 2009, from http://www.libraryjournal.com/article/CA6625166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October 15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Director's station for usage stats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 Library Journal. Retrieved July 2, 2009, from http://www.libraryjournal.com/article/CA6602837.html?industryid=471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. (2007, June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SirsiDynix introduces SirsiDynix Symphony as new integrated library system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Retrieved July 2, 2009, from Library Technology Guides: http://www.librarytechnology.org/ltg-displayarticle.pl?RC=126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 (2008, December 2). SirsiDynix StaffWeb brochure. Retrieved July 6, 2009, from www.sirsidynix.com/Resources/Pdfs/Solutions/Products/StaffWeb.pd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rcRect l="15235" t="5689" r="0" b="9516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9T18:15:42Z</dcterms:modified>
  <cp:revision>13</cp:revision>
  <dc:subject/>
  <dc:title>Slide 1</dc:title>
</cp:coreProperties>
</file>